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B502-4FA8-4CF7-8353-7CD849A0DF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94A8-94D9-4160-8898-FDE46DE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816056-5CE8-4AB5-BBEE-A6088878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D5685A-EC4E-4D6C-87E2-39DEAC10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ECEC9B-781D-424C-A043-DB7CA41B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50D24F-F3C2-4178-B890-8E50392D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9862B2-FC49-4841-9242-9039A91F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ABD5C3-6112-41FC-8442-F1BD03FC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968402-3D4C-4BC9-B1BD-9163B368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AB7E7B-4440-4C3A-9B09-32ED9F41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B64060-27D3-41F2-8F92-96CC6BE6A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65A11-394F-4941-A522-ACE15A5B1D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562B-E1D9-4A92-A611-65618ED4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09BC9-CE13-4E56-AD4A-ECB806C5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A3BC4-1EB5-4F97-BE72-DC0A104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2CA4F-12B2-4056-8071-CA803DA4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76B61-32DC-4448-A6FC-7EF4C2BD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08E25-858F-47D8-8BD1-BDBB0DA2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E28CD-9538-420D-ACCC-5D911296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6C0E5-9D0E-40C1-934B-F5383BCB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C2F73-F797-49DB-B382-B2969143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E4F8E-7BDA-4D71-B549-D3F2170A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2163B-5880-4247-9C07-F1209A27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BD87-EB59-4F20-8DD9-9A7C14CB1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F8A75-335E-469E-B74A-2B2721B8E3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5C4355-A0D0-43A1-95AD-D8506AC272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0993F4-DD61-45F1-9B5D-9E5CF9F7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93378C-551D-49CA-B2ED-1EB2805D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4858D5-C483-4556-8B3D-5243E987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9278AB-0371-4BB9-ACBD-6E6DC4E8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4EF73-E20B-418B-9F70-30B292B2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D2CC6C-98E3-44EA-89F7-9F362267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7D48F9-9A9E-499F-A51D-0A92D53B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5A107-0C45-4273-A441-313F0BA3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C7108-38A7-492E-88DE-B90D17A0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4798A-EFA6-4B21-8888-AAE50FF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E2E186-7828-455B-B41C-3C3FF43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988DAA-BDB5-41F1-9906-6FB279D2D4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F89BF-4E86-4F5D-943B-720FD5C235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DCBD4-5EBC-402F-8E36-54265457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9B4D4-4496-46B7-8E48-35F7DF3B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FE67B-A386-4093-B6F4-3289DEBF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9BA18-0E34-4E23-9A40-B84C7354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441F8-ADA7-4B08-8F01-A532BBF3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C7C1E-E6C6-4AA8-8228-60474F10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C06E6-6415-45A3-8B99-A230ADFF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3B93B-FC93-4E63-8B46-93294860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F55D7-E7D7-4465-882F-E789178D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1CA78-D335-4CA5-BAA3-6E259CC1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B507A-3D62-45B8-97D6-EDAE5085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5FF28-91C0-479A-8416-7CABACC2F4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8CCAF-C26E-4AF5-A038-AF63D8D8A3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598FF-841B-4D8F-ABC6-EB86CD19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7326C-2572-4992-880C-029D5EF1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D4314-ED69-4ACF-A9FC-DDCF335D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4C80E-3864-4A48-9FA1-2369A6FF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5FFF8-48CA-49A7-A39D-55C3E8CA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16C4B-CB17-4D81-AEC9-2E150884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82F6C-383E-4C13-91B6-76B95FD1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3BDCB-404A-49EF-85DE-220042F2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7EA85-3F7F-43C5-BD5B-D8B6B374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A9DE2-FB7B-46D8-9A27-12F1355E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DCC09-A924-4935-BF13-E413F985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8E72B-A1C7-4641-A350-5B9989F599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68AA7-24E6-4809-8844-50BDDC34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CE7DC-E0F6-4ADD-AF20-7AE07A7A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A1191-4578-4235-9528-9268CA65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E6381-6A95-4403-9D1F-7EA1FBF9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7AA54-F6D4-4594-85F0-B90AF70B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CE342-ABF0-454D-8C58-B973B5EB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E86D7-1484-4CE7-A9E6-4530AB08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4EF8E-04CD-44EB-A29C-96512940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9B382-AEA9-4092-AFE0-D1B2E8ED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678D0-F291-4544-B9BF-58D69771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C1309-1E39-4434-9DBD-E3D21474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2B237-A9B0-40D3-9A3E-02CE8511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2A16D-E85F-4C2C-9F98-D113B544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612C6-CA33-4811-8865-AF8424D9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03A41-2CCC-4C04-888D-2BE7893C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FD088-C9BE-4E97-B1D1-CC758FC9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3CB53-586F-4730-B585-4E6A695C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0A046-2B3B-4B8B-96E4-E956C17A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07CBB-8109-4847-B087-7C0D44EA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6C034-0C15-474D-84B2-E2DA11D2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469E0-96EE-4A29-8DEE-08EE611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C1957-5D13-4342-ABE7-68BC1D96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A1190-C1F0-4E60-B696-CE9C139A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61FC7-78CD-4008-BC23-8D93AA90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A1978-B87F-4E2C-9174-EB52C1A1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E86A1-7CCE-4D0A-8942-F1A6D393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038CD-2FC3-42FA-B7C7-E08767A1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A77C8-B5BD-4D66-B9A0-4FCFD9C3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A51A9-6F42-4677-BE39-E8FFF9E4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06BE3-F343-4450-9A0B-5DF8BB3F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2BC38-D11C-47FE-91CD-3A20626A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BE143-57FC-44EB-A6DB-BF39B7E9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16910-8080-4858-B991-70E2017D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88EB8-BF89-4482-ADE6-F87E345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E3824-449E-48E7-9C7D-31A079C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1DF4D-3426-4681-B9AF-3ACC1EEF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0CC39-90EC-41A2-A25F-E7BDE559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27342-8BD9-4994-AC12-6C95DBBF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ACAC6-DB3A-4F52-A7D2-944B0CE8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9F1DF-0C2A-4172-9F8A-5FB5A801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60933-DFC6-4AB5-89F0-7C4CFE89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66EE7-EB22-4A0A-8405-AD261000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604EE-7B33-417D-9954-A1BFF759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28723-C084-4B1A-8E9F-01D1AC27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E22A6-BB4D-4051-8067-6F6645E0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C4D60-CC3A-4BEA-9481-3D698AD4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008B8-304E-49CF-9373-D443A32C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E6A9-AC11-4926-B8C4-841854C9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3C990-D247-4C79-ADDE-96D5CDF2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8DD63-CB74-428F-A4E7-78CB9E14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3B6FB-000A-453B-9D8B-F181A5F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BC61C-BED6-475B-9601-1D8F777D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3EC46-067C-47C6-B370-927A75DA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E30CA-3E89-4F19-82AB-B6C7A85E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FE299-9F20-4D4B-B03C-6125922E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F09B8-D953-4742-BD06-75038C81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1726C-EBD1-42C0-B3DB-20A0E889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609E5-7117-4552-AE4F-F52B926F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E093C-DD1F-400D-926D-BA75F9D2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F30DA-F311-4504-81F0-751EC38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1410C-3B1D-4C1F-941E-3B78A0E6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4E1D2-2228-4140-8FFF-CD888F64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F8096-1F32-4686-928A-503D2FC8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9C68F-DEFD-42BC-8296-D5E47C7D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638A4-F843-4513-84E6-D1A1270C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FEE16-9117-4607-AD74-7E6DBF5D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4DE64-3BBD-4B4E-A19D-746A4003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2FDE3-FBDF-4768-BE97-B931A58A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50C18-120A-4E5B-AC41-44F48549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D3632-97EB-426B-8A1C-6A2B6E0D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07BE7-31B6-4C9A-AA31-17EAF0CF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9B895-ED03-4433-9E69-2141932D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8E76A-F1B8-4263-B5AD-2186D518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5441E-0DAD-4157-B000-C82E15C5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DE688-21C7-45F1-B563-E96CAD32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A074C-25A3-4163-AA3B-8D42670D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829B0-59DF-4E95-8F31-B25BC9A8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DD57E-D7CB-48E5-9FA0-59CCB0F0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B5D3B-5685-4EE6-BA81-830C9485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7EC4C-83E3-45A7-91D6-EB18180A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2DE8E-BFED-43AA-B072-9AEF47BD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817B9-4589-4A4E-873C-2E2BCD8C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512B7-AE7E-488D-AF1E-C6C04225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18800-0CC2-4F97-AE2F-5E2010E6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BA970-486C-40DB-9175-9BBC2AB8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36140-62B2-4EB7-9744-19F89CDF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BEF70-2F69-44ED-AD8B-510FDD43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82D9A-3FAD-4C3F-8A06-B20C28F6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8CE67-DC35-48CD-9AEF-C42590E8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A7E1B-9606-4CB0-A798-9FFA241E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CA892A-AB2D-4D2A-BCCA-5C101ED8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B176D-1F6C-441B-9332-6B615E97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37DD3-3A28-46E4-BF29-7413C873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1A58A-CB12-445F-8CA4-61DE5745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F8FEC-4CDE-4593-BB54-22ED9D99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FFB86-DDAD-4380-9D31-E3205E5A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444BD-AA3B-4D7E-8209-1EC90699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32981-52F1-43A0-9782-93D40C1C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3ECD1-E6E2-4792-B8E7-31F3E72E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D39D9-525E-42AD-8D21-DA165A2A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667F2-EEC5-4694-8C37-A4F8BAB5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DCC29-11CB-4C48-9FE4-E4DF17B6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47A57-E2BC-48F5-BE93-C1B83382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1CEBF-4964-4174-9BA6-226F742D10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4048B-4688-4C31-AA85-BF851704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5F4D11-CFA8-4D27-B638-5D7B4393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807DE-080D-46EA-8414-9FB364C7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6EBB1-119A-49BA-BBE8-A3A9EFB1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1BF7B-9DCB-48D8-AA64-2C5F5960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165ED-6F46-4036-959E-C2E3C824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8C928-E625-4DF9-9E4C-A0ACE501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97D30-03FD-4CA7-A3A8-C5EAA91F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56C83A-A409-4343-842C-567C5B82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5D6B5D-83E3-4800-A88E-351A5744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5573B-6956-4BF9-A20B-196FB2D1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17294-1A6B-4D5E-84AA-FED83EE6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F9EDB-B0A1-47CC-A883-5F7CFA8D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AFD18-9E91-4FCD-A226-CFE5482B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8AF18-D35B-4360-A65F-F44C163B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E95B52-F278-4B9C-977C-FD95E8F7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4D5A8E-4FA2-4608-8C22-A2A93C93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6B279-500C-4CDE-B195-B9CF57CA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C1CD1F-F0F4-4254-9663-40621EAB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020349-F6BD-4C94-B539-DF594BCB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0810B-7AC2-4A0D-90EE-E1CA2059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369A8-46EC-451A-BE27-3C337833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4F8E3B-F3BA-4B70-AA9D-5E2CB119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40199C-2C28-4BFC-8EF1-F8D71A4B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DD63B-C38E-4AE6-A4BE-EC92273C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CAD24-DCE5-4DA7-A94B-3C7B2CA5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15E4D1-E632-4E89-BA0D-FA12AAAB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CCA90-CD33-4085-9323-4BFFD684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907BB2-A392-4072-98C2-74B91973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7629BE-5799-494E-A9A5-75BB2FA5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2107E-D1D5-429D-A92C-DC1A796E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768753-2849-4417-8833-22273DB9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D54E8-C5FB-4ED5-A27B-0B3CD436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80CDAC-A7EB-4BEF-B37F-C1133184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3CA380-DC59-4012-B252-AEDA23BE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97D42-BB8A-45BE-A0CC-61F51232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1A85E-FBA7-4095-BFE6-AFEF9866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52336-7B4B-4DDD-9824-5B870ECA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ED868-CFFD-436B-B641-6C75FE36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0A8763-11B1-4362-954C-996BE9AA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AA2619-89B1-4938-B39A-006F1AFA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E648CB-5E6B-452F-B1F6-21EF68CF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276F71-1F7D-46F3-852F-DB3F6778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3258-3BBE-4774-82AC-10EBD87B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6CCC5-3ACF-41D4-BEDD-0EBAAC0F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37CAC8-50BC-43AC-A8D7-75556F1C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8F162-1CE0-487B-9CAA-11EBD302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52FC74-BAA9-4A6A-9477-D3C8AA86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EFD047-AC37-4D57-8713-5C98E91D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DD176-CBE6-4216-BB04-1E9791F1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67D222-C4E6-417A-964C-87C41C04E7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5424-B7C3-40AB-8174-8AFDA512B1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6954-1A0A-4E2C-90C6-6410E8A8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80CA-A319-4964-B639-297E3F07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79F9-D765-4CD8-9563-8D37209B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81090-0ADC-4015-864B-E7344825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08DC-F7A1-4835-8067-5557DAA4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BD04-C780-4F57-8D6F-E9E51A1E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888C-0F1A-4D6C-BEC9-5313E359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4C9F-072E-4F88-9707-F8743E1D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27F23-E878-451F-A8D4-38D776B0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205C-A07F-4E56-B00E-72FBBD28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3110-EECB-45AE-99E5-C3FB49BA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92858-2E7E-434C-BB5A-E51C2FE741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1B23D-D5C2-4A0D-B105-2E1A6FF60B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9943-91AE-4144-BBBA-1BDB9A87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FD6D87-7DEF-4A7C-8C9D-B437EF1D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BC30D3-468F-428D-8722-0EF8A56F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9C2D26-C83D-411A-8E37-0DA3497D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0D6640-978F-4A6C-8D05-8298765B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13921-815E-462C-8C16-A855D1B9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89F90-CDCA-4FAB-9DDF-81E9809C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102A39-3FC6-43DC-95B1-0EE6C879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B7AA5-E46F-4EA8-ACBA-DD5FF1A8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1BD033-970C-421C-A510-5318ABC7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481717-8F82-4241-9950-DEE2798B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0D5A-5472-4BCD-BA4C-6274FF3E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235DC1-F5F2-4D3B-92F1-9BFCF6E546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C17B5F-A964-475B-87F6-5B63C145EB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8C4BFB-0690-41E7-873D-E50C9E3C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9EEE5-50F1-40DD-A2F4-68EFE6AD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9F0E8C-15EE-42F4-B407-51136CDF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807F5A-FD30-4A4A-B7CB-33A46C3D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A34A8C-780B-430C-93E0-6368FB24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DCEDF6-E8D6-42E5-9F15-FC5C62F1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52ED2B-2D56-4D5A-84DC-37A0766B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93E1F8-CF72-4828-B2E7-5816168B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3E10-1526-4536-AF1F-52A2CE4E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A8C0B9-6C2D-4FBB-B650-D3CB8D80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9BF336-40E3-40E6-8FAA-A280433F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667213-D0A0-41BC-A6EE-8D68737D6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A4BE9-724A-48D6-B470-8E7240CA6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768C5-3779-479B-9EA8-373F8C77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2919E-9EF7-4264-A415-D7326083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21565-D997-47B6-9D59-1D142423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99FF-FE57-4800-86FB-1F21C286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F4E86-3C0F-4267-84BB-6E5B6D36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E3ADF-9556-4187-8BB9-6AB5C62A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6AC9F-86E2-43CF-8352-7E66B10F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9A72A-A23D-4530-AD38-7726BF81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2F8DB-B077-49FD-9FB4-3FFB2D69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45EB4-8534-4F04-B055-720AC748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281F1-9709-4E9D-AC87-11F70715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5EE32-91F1-4416-B198-776639D064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3599E-803D-4C99-BF7D-3833E4AF8D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BC718-30F7-4812-B427-F8267C06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278DE-8033-4A20-A6FD-84B9D569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EAFFE-E09E-4540-A0CE-1936D4D8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AD01A-20D6-4FAF-AF34-760550F1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17009-5D5F-4ED7-8FDF-6681ECE8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8A2F4-8BF7-4498-B549-D550DE54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A7B2D-5F42-449E-9E84-92A465CD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69A5E-FE2B-4E38-A315-D92F59B6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856BC-1B15-4930-8C1E-CF6F6906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695FF-5715-4C16-B6D3-589675BC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A0FCB-AE72-4CC7-89A1-86CB5487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ABC1F-AE5A-4EA8-9800-D0E38BA22A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322C9E-F136-47D5-9FB3-73E4A2566D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0D758E-95C8-46DC-966C-72DBF156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5DAAE9-9711-49D8-9E5B-99714346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F171-97E6-4187-A446-109CCD9BD3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9CDB-1E49-4357-94F9-6A5A4F87C8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63C3-6131-44FA-97B1-70B071793F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D118-9A8E-41FB-B114-2EF5FC230F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ED59-F1FD-44C1-85D5-28608A6181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152C-D8BD-43E5-A86F-AAAA0C4A535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220A-E704-498E-9544-7BA373894CC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AA95-9252-47B1-BC27-AECCF7C230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259D-6391-4FBF-A677-6A5A84E0A1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F85D-D236-4A52-AB72-DFF02521983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E906-41DD-474B-BA5F-AB6D08A59A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FD02-688C-400B-B8C6-2F05A3750B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471E-6F92-47B6-8C04-7415AC7C26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B4CF-E0B1-4891-B2F6-F53C56CADC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BC8A-A49B-4774-8C0D-523EDB2010A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9501-AD88-45F2-B338-BD553F0DBA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2191-5EE0-432D-BD26-8C1FC94CA1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AA80-F358-4FD5-A6EE-75350F94F0F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F9D2-7A79-41D2-BC49-CE6B5F38835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60FF-E0C3-4629-BA39-DE5C16E6EB4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545E-B992-4813-859A-8311820153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BA01-D146-46A4-A3D5-AF5589DB9F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F94C-9A30-41A3-BC3D-F8398F467AD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5424-6B87-4256-AF4A-19DA008AE49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927080" y="282744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79864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认 识 厘 米   用 厘 米 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度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279360" y="193032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填一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的尺子上，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是（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）厘米，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是（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厘米，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是（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）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组合 4"/>
          <p:cNvGrpSpPr/>
          <p:nvPr/>
        </p:nvGrpSpPr>
        <p:grpSpPr>
          <a:xfrm>
            <a:off x="0" y="190440"/>
            <a:ext cx="441360" cy="326880"/>
            <a:chOff x="0" y="190440"/>
            <a:chExt cx="441360" cy="326880"/>
          </a:xfrm>
        </p:grpSpPr>
        <p:sp>
          <p:nvSpPr>
            <p:cNvPr id="1140" name="椭圆 11"/>
            <p:cNvSpPr/>
            <p:nvPr/>
          </p:nvSpPr>
          <p:spPr>
            <a:xfrm rot="16200000">
              <a:off x="239040" y="396720"/>
              <a:ext cx="118440" cy="1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8100000"/>
            </a:gradFill>
            <a:ln w="0">
              <a:noFill/>
            </a:ln>
            <a:effectLst>
              <a:outerShdw dist="12727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1" name="椭圆 13" descr=""/>
            <p:cNvPicPr/>
            <p:nvPr/>
          </p:nvPicPr>
          <p:blipFill>
            <a:blip r:embed="rId1"/>
            <a:stretch/>
          </p:blipFill>
          <p:spPr>
            <a:xfrm>
              <a:off x="224280" y="341640"/>
              <a:ext cx="217080" cy="1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椭圆 29"/>
            <p:cNvSpPr/>
            <p:nvPr/>
          </p:nvSpPr>
          <p:spPr>
            <a:xfrm rot="16200000">
              <a:off x="239040" y="245520"/>
              <a:ext cx="118440" cy="1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8100000"/>
            </a:gradFill>
            <a:ln w="0">
              <a:noFill/>
            </a:ln>
            <a:effectLst>
              <a:outerShdw dist="12727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3" name="椭圆 30" descr=""/>
            <p:cNvPicPr/>
            <p:nvPr/>
          </p:nvPicPr>
          <p:blipFill>
            <a:blip r:embed="rId2"/>
            <a:stretch/>
          </p:blipFill>
          <p:spPr>
            <a:xfrm>
              <a:off x="224280" y="207720"/>
              <a:ext cx="217080" cy="1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0" y="360720"/>
              <a:ext cx="366120" cy="1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圆角矩形 32" descr=""/>
            <p:cNvPicPr/>
            <p:nvPr/>
          </p:nvPicPr>
          <p:blipFill>
            <a:blip r:embed="rId4"/>
            <a:stretch/>
          </p:blipFill>
          <p:spPr>
            <a:xfrm>
              <a:off x="0" y="327240"/>
              <a:ext cx="366120" cy="1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圆角矩形 33" descr=""/>
            <p:cNvPicPr/>
            <p:nvPr/>
          </p:nvPicPr>
          <p:blipFill>
            <a:blip r:embed="rId5"/>
            <a:stretch/>
          </p:blipFill>
          <p:spPr>
            <a:xfrm>
              <a:off x="0" y="223920"/>
              <a:ext cx="366120" cy="1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圆角矩形 34" descr=""/>
            <p:cNvPicPr/>
            <p:nvPr/>
          </p:nvPicPr>
          <p:blipFill>
            <a:blip r:embed="rId6"/>
            <a:stretch/>
          </p:blipFill>
          <p:spPr>
            <a:xfrm>
              <a:off x="0" y="190440"/>
              <a:ext cx="366120" cy="11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8" name="圆角矩形 3" descr=""/>
          <p:cNvPicPr/>
          <p:nvPr/>
        </p:nvPicPr>
        <p:blipFill>
          <a:blip r:embed="rId7"/>
          <a:stretch/>
        </p:blipFill>
        <p:spPr>
          <a:xfrm>
            <a:off x="154080" y="76320"/>
            <a:ext cx="3170160" cy="630000"/>
          </a:xfrm>
          <a:prstGeom prst="rect">
            <a:avLst/>
          </a:prstGeom>
          <a:ln w="0">
            <a:noFill/>
          </a:ln>
        </p:spPr>
      </p:pic>
      <p:sp>
        <p:nvSpPr>
          <p:cNvPr id="1149" name="文本框 4"/>
          <p:cNvSpPr/>
          <p:nvPr/>
        </p:nvSpPr>
        <p:spPr>
          <a:xfrm>
            <a:off x="5316480" y="2505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5"/>
          <p:cNvSpPr/>
          <p:nvPr/>
        </p:nvSpPr>
        <p:spPr>
          <a:xfrm>
            <a:off x="1807920" y="29908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6"/>
          <p:cNvSpPr/>
          <p:nvPr/>
        </p:nvSpPr>
        <p:spPr>
          <a:xfrm>
            <a:off x="6161040" y="3005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量一量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支铅笔长约（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书长约（　　）厘米，宽约（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厘米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4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6" name="椭圆 8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7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椭圆 10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9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圆角矩形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圆角矩形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圆角矩形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圆角矩形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4" name="文本框 5"/>
          <p:cNvSpPr/>
          <p:nvPr/>
        </p:nvSpPr>
        <p:spPr>
          <a:xfrm>
            <a:off x="3396960" y="2771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11"/>
          <p:cNvSpPr/>
          <p:nvPr/>
        </p:nvSpPr>
        <p:spPr>
          <a:xfrm>
            <a:off x="6956280" y="2754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18"/>
          <p:cNvSpPr/>
          <p:nvPr/>
        </p:nvSpPr>
        <p:spPr>
          <a:xfrm>
            <a:off x="3848760" y="21891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1"/>
          <p:cNvSpPr/>
          <p:nvPr/>
        </p:nvSpPr>
        <p:spPr>
          <a:xfrm>
            <a:off x="6817320" y="222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案不唯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4" descr="图片1"/>
          <p:cNvPicPr/>
          <p:nvPr/>
        </p:nvPicPr>
        <p:blipFill>
          <a:blip r:embed="rId1"/>
          <a:stretch/>
        </p:blipFill>
        <p:spPr>
          <a:xfrm>
            <a:off x="1316160" y="2295360"/>
            <a:ext cx="6532560" cy="4019760"/>
          </a:xfrm>
          <a:prstGeom prst="rect">
            <a:avLst/>
          </a:prstGeom>
          <a:ln w="0">
            <a:noFill/>
          </a:ln>
        </p:spPr>
      </p:pic>
      <p:sp>
        <p:nvSpPr>
          <p:cNvPr id="999" name="Text Box 10"/>
          <p:cNvSpPr/>
          <p:nvPr/>
        </p:nvSpPr>
        <p:spPr>
          <a:xfrm>
            <a:off x="285840" y="914400"/>
            <a:ext cx="86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古代，人们经常用自己的身体的某个部位作为测量单位，如胳膊、脚掌、手掌，来测量物体的长度。但是人的个体不同，相同部位大小也不一样，测量结果可能有区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组合 2"/>
          <p:cNvGrpSpPr/>
          <p:nvPr/>
        </p:nvGrpSpPr>
        <p:grpSpPr>
          <a:xfrm>
            <a:off x="0" y="101520"/>
            <a:ext cx="4890960" cy="527040"/>
            <a:chOff x="0" y="101520"/>
            <a:chExt cx="4890960" cy="527040"/>
          </a:xfrm>
        </p:grpSpPr>
        <p:pic>
          <p:nvPicPr>
            <p:cNvPr id="1001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41560" y="101520"/>
              <a:ext cx="46494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2" name="组合 4"/>
            <p:cNvGrpSpPr/>
            <p:nvPr/>
          </p:nvGrpSpPr>
          <p:grpSpPr>
            <a:xfrm>
              <a:off x="0" y="196560"/>
              <a:ext cx="653400" cy="274320"/>
              <a:chOff x="0" y="196560"/>
              <a:chExt cx="653400" cy="274320"/>
            </a:xfrm>
          </p:grpSpPr>
          <p:sp>
            <p:nvSpPr>
              <p:cNvPr id="1003" name="椭圆 11"/>
              <p:cNvSpPr/>
              <p:nvPr/>
            </p:nvSpPr>
            <p:spPr>
              <a:xfrm rot="16200000">
                <a:off x="277200" y="350640"/>
                <a:ext cx="105480" cy="13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16160" y="286920"/>
                <a:ext cx="237240" cy="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椭圆 29"/>
              <p:cNvSpPr/>
              <p:nvPr/>
            </p:nvSpPr>
            <p:spPr>
              <a:xfrm rot="16200000">
                <a:off x="277200" y="215280"/>
                <a:ext cx="105480" cy="13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6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416160" y="206640"/>
                <a:ext cx="237240" cy="8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9844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828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1636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1" name="Text Box 5"/>
          <p:cNvSpPr/>
          <p:nvPr/>
        </p:nvSpPr>
        <p:spPr>
          <a:xfrm>
            <a:off x="754200" y="1238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景，新知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八边形 7"/>
          <p:cNvSpPr/>
          <p:nvPr/>
        </p:nvSpPr>
        <p:spPr>
          <a:xfrm>
            <a:off x="457200" y="85104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5"/>
          <p:cNvSpPr/>
          <p:nvPr/>
        </p:nvSpPr>
        <p:spPr>
          <a:xfrm>
            <a:off x="754200" y="123840"/>
            <a:ext cx="43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景，新知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7" name="椭圆 2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椭圆 4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5" name="图片 7204" descr="23"/>
          <p:cNvPicPr/>
          <p:nvPr/>
        </p:nvPicPr>
        <p:blipFill>
          <a:blip r:embed="rId8"/>
          <a:stretch/>
        </p:blipFill>
        <p:spPr>
          <a:xfrm>
            <a:off x="971640" y="1054080"/>
            <a:ext cx="3384360" cy="236844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7205" descr="24"/>
          <p:cNvPicPr/>
          <p:nvPr/>
        </p:nvPicPr>
        <p:blipFill>
          <a:blip r:embed="rId9"/>
          <a:srcRect l="36755" t="0" r="11110" b="-104"/>
          <a:stretch/>
        </p:blipFill>
        <p:spPr>
          <a:xfrm>
            <a:off x="4427640" y="622440"/>
            <a:ext cx="3816360" cy="2838240"/>
          </a:xfrm>
          <a:prstGeom prst="rect">
            <a:avLst/>
          </a:prstGeom>
          <a:ln w="0">
            <a:noFill/>
          </a:ln>
        </p:spPr>
      </p:pic>
      <p:sp>
        <p:nvSpPr>
          <p:cNvPr id="1027" name="圆角矩形标注 7192"/>
          <p:cNvSpPr/>
          <p:nvPr/>
        </p:nvSpPr>
        <p:spPr>
          <a:xfrm>
            <a:off x="2519280" y="3654360"/>
            <a:ext cx="3122640" cy="811800"/>
          </a:xfrm>
          <a:prstGeom prst="wedgeRoundRectCallout">
            <a:avLst>
              <a:gd name="adj1" fmla="val -59495"/>
              <a:gd name="adj2" fmla="val 25263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量的都是课桌的长，为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量的结果不一样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3" descr="E:\2015春（伍倩倩）\六年级上册课件\1.jpg"/>
          <p:cNvPicPr/>
          <p:nvPr/>
        </p:nvPicPr>
        <p:blipFill>
          <a:blip r:embed="rId10"/>
          <a:stretch/>
        </p:blipFill>
        <p:spPr>
          <a:xfrm>
            <a:off x="1033560" y="3768840"/>
            <a:ext cx="1135080" cy="1805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5" descr="E:\2015春（伍倩倩）\六年级上册课件\小男孩.jpg"/>
          <p:cNvPicPr/>
          <p:nvPr/>
        </p:nvPicPr>
        <p:blipFill>
          <a:blip r:embed="rId11"/>
          <a:stretch/>
        </p:blipFill>
        <p:spPr>
          <a:xfrm>
            <a:off x="7243920" y="4643280"/>
            <a:ext cx="1000080" cy="1611360"/>
          </a:xfrm>
          <a:prstGeom prst="rect">
            <a:avLst/>
          </a:prstGeom>
          <a:ln w="0">
            <a:noFill/>
          </a:ln>
        </p:spPr>
      </p:pic>
      <p:sp>
        <p:nvSpPr>
          <p:cNvPr id="1030" name="TextBox 21"/>
          <p:cNvSpPr/>
          <p:nvPr/>
        </p:nvSpPr>
        <p:spPr>
          <a:xfrm>
            <a:off x="4149720" y="4643280"/>
            <a:ext cx="1826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小朋友的一拃要比大人的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拃短，所以测量出来的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不相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圆角矩形标注 27"/>
          <p:cNvSpPr/>
          <p:nvPr/>
        </p:nvSpPr>
        <p:spPr>
          <a:xfrm>
            <a:off x="3463920" y="4719600"/>
            <a:ext cx="3276720" cy="1249560"/>
          </a:xfrm>
          <a:prstGeom prst="wedgeRoundRectCallout">
            <a:avLst>
              <a:gd name="adj1" fmla="val 60004"/>
              <a:gd name="adj2" fmla="val -1134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ext Box 5"/>
          <p:cNvSpPr/>
          <p:nvPr/>
        </p:nvSpPr>
        <p:spPr>
          <a:xfrm>
            <a:off x="754200" y="123840"/>
            <a:ext cx="43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景，新知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4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6" name="椭圆 2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8" name="椭圆 4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9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44" name="图片 7204" descr="23"/>
          <p:cNvPicPr/>
          <p:nvPr/>
        </p:nvPicPr>
        <p:blipFill>
          <a:blip r:embed="rId8"/>
          <a:stretch/>
        </p:blipFill>
        <p:spPr>
          <a:xfrm>
            <a:off x="971640" y="1054080"/>
            <a:ext cx="3384360" cy="236844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7205" descr="24"/>
          <p:cNvPicPr/>
          <p:nvPr/>
        </p:nvPicPr>
        <p:blipFill>
          <a:blip r:embed="rId9"/>
          <a:srcRect l="36755" t="0" r="11110" b="-104"/>
          <a:stretch/>
        </p:blipFill>
        <p:spPr>
          <a:xfrm>
            <a:off x="4427640" y="622440"/>
            <a:ext cx="3816360" cy="2838240"/>
          </a:xfrm>
          <a:prstGeom prst="rect">
            <a:avLst/>
          </a:prstGeom>
          <a:ln w="0">
            <a:noFill/>
          </a:ln>
        </p:spPr>
      </p:pic>
      <p:sp>
        <p:nvSpPr>
          <p:cNvPr id="1046" name="缺角矩形 5"/>
          <p:cNvSpPr/>
          <p:nvPr/>
        </p:nvSpPr>
        <p:spPr>
          <a:xfrm>
            <a:off x="804960" y="3897360"/>
            <a:ext cx="222120" cy="191880"/>
          </a:xfrm>
          <a:custGeom>
            <a:avLst/>
            <a:gdLst>
              <a:gd name="textAreaLeft" fmla="*/ 22320 w 222120"/>
              <a:gd name="textAreaRight" fmla="*/ 199800 w 222120"/>
              <a:gd name="textAreaTop" fmla="*/ 22320 h 191880"/>
              <a:gd name="textAreaBottom" fmla="*/ 169560 h 191880"/>
            </a:gdLst>
            <a:ahLst/>
            <a:rect l="textAreaLeft" t="textAreaTop" r="textAreaRight" b="textAreaBottom"/>
            <a:pathLst>
              <a:path w="249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1398" y="21600"/>
                </a:lnTo>
                <a:arcTo wR="3600" hR="3600" stAng="10800000" swAng="5400000"/>
                <a:lnTo>
                  <a:pt x="2499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34373"/>
              </a:gs>
            </a:gsLst>
            <a:lin ang="5400000"/>
          </a:gra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34"/>
          <p:cNvSpPr/>
          <p:nvPr/>
        </p:nvSpPr>
        <p:spPr>
          <a:xfrm>
            <a:off x="1046160" y="3726000"/>
            <a:ext cx="18414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宋体"/>
              </a:rPr>
              <a:t>测量定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11"/>
          <p:cNvSpPr/>
          <p:nvPr/>
        </p:nvSpPr>
        <p:spPr>
          <a:xfrm>
            <a:off x="1436760" y="4614840"/>
            <a:ext cx="61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只有用相同的计量单位去量相同的物体才会得出相同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5" descr=""/>
          <p:cNvPicPr/>
          <p:nvPr/>
        </p:nvPicPr>
        <p:blipFill>
          <a:blip r:embed="rId1"/>
          <a:srcRect l="876" t="7878" r="1166" b="13288"/>
          <a:stretch/>
        </p:blipFill>
        <p:spPr>
          <a:xfrm>
            <a:off x="611280" y="3573360"/>
            <a:ext cx="7848360" cy="744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5" descr="手"/>
          <p:cNvPicPr/>
          <p:nvPr/>
        </p:nvPicPr>
        <p:blipFill>
          <a:blip r:embed="rId2"/>
          <a:stretch/>
        </p:blipFill>
        <p:spPr>
          <a:xfrm>
            <a:off x="217440" y="1079640"/>
            <a:ext cx="2984400" cy="2520720"/>
          </a:xfrm>
          <a:prstGeom prst="rect">
            <a:avLst/>
          </a:prstGeom>
          <a:ln w="0">
            <a:noFill/>
          </a:ln>
        </p:spPr>
      </p:pic>
      <p:sp>
        <p:nvSpPr>
          <p:cNvPr id="1051" name="Line 37"/>
          <p:cNvSpPr/>
          <p:nvPr/>
        </p:nvSpPr>
        <p:spPr>
          <a:xfrm>
            <a:off x="787320" y="3575160"/>
            <a:ext cx="74160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38"/>
          <p:cNvSpPr/>
          <p:nvPr/>
        </p:nvSpPr>
        <p:spPr>
          <a:xfrm flipV="1">
            <a:off x="782640" y="3511080"/>
            <a:ext cx="0" cy="7164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39"/>
          <p:cNvSpPr/>
          <p:nvPr/>
        </p:nvSpPr>
        <p:spPr>
          <a:xfrm flipV="1">
            <a:off x="1535040" y="3510000"/>
            <a:ext cx="0" cy="7128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754200" y="123840"/>
            <a:ext cx="43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景，新知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6" name="圆角矩形 1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58" name="椭圆 2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9" name="椭圆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0" name="椭圆 4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1" name="椭圆 6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7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9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10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6" name="圆角矩形 5"/>
          <p:cNvSpPr/>
          <p:nvPr/>
        </p:nvSpPr>
        <p:spPr>
          <a:xfrm>
            <a:off x="4572000" y="1413000"/>
            <a:ext cx="3564000" cy="1387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尺子是我们测量长度的工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请你认真观察尺子，看看尺子都有些什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缺角矩形 11"/>
          <p:cNvSpPr/>
          <p:nvPr/>
        </p:nvSpPr>
        <p:spPr>
          <a:xfrm>
            <a:off x="804960" y="4614840"/>
            <a:ext cx="222120" cy="192240"/>
          </a:xfrm>
          <a:custGeom>
            <a:avLst/>
            <a:gdLst>
              <a:gd name="textAreaLeft" fmla="*/ 22680 w 222120"/>
              <a:gd name="textAreaRight" fmla="*/ 199440 w 222120"/>
              <a:gd name="textAreaTop" fmla="*/ 22680 h 192240"/>
              <a:gd name="textAreaBottom" fmla="*/ 169560 h 192240"/>
            </a:gdLst>
            <a:ahLst/>
            <a:rect l="textAreaLeft" t="textAreaTop" r="textAreaRight" b="textAreaBottom"/>
            <a:pathLst>
              <a:path w="249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1351" y="21600"/>
                </a:lnTo>
                <a:arcTo wR="3600" hR="3600" stAng="10800000" swAng="5400000"/>
                <a:lnTo>
                  <a:pt x="249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34373"/>
              </a:gs>
            </a:gsLst>
            <a:lin ang="5400000"/>
          </a:gra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34"/>
          <p:cNvSpPr/>
          <p:nvPr/>
        </p:nvSpPr>
        <p:spPr>
          <a:xfrm>
            <a:off x="1046160" y="4443480"/>
            <a:ext cx="18414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宋体"/>
              </a:rPr>
              <a:t>认识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12"/>
          <p:cNvSpPr/>
          <p:nvPr/>
        </p:nvSpPr>
        <p:spPr>
          <a:xfrm>
            <a:off x="839880" y="4984920"/>
            <a:ext cx="76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尺子上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后面有一个长度单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它表示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这一格的长度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厘米可以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八边形 13"/>
          <p:cNvSpPr/>
          <p:nvPr/>
        </p:nvSpPr>
        <p:spPr>
          <a:xfrm>
            <a:off x="223920" y="7128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Text Box 21"/>
          <p:cNvSpPr/>
          <p:nvPr/>
        </p:nvSpPr>
        <p:spPr>
          <a:xfrm>
            <a:off x="3476880" y="4149720"/>
            <a:ext cx="220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量比较短的物体，可以用“厘米”作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27" descr="2"/>
          <p:cNvPicPr/>
          <p:nvPr/>
        </p:nvPicPr>
        <p:blipFill>
          <a:blip r:embed="rId1"/>
          <a:srcRect l="75639" t="0" r="0" b="-3099"/>
          <a:stretch/>
        </p:blipFill>
        <p:spPr>
          <a:xfrm>
            <a:off x="6180120" y="155736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28" descr="2"/>
          <p:cNvPicPr/>
          <p:nvPr/>
        </p:nvPicPr>
        <p:blipFill>
          <a:blip r:embed="rId2"/>
          <a:srcRect l="37198" t="0" r="37168" b="2396"/>
          <a:stretch/>
        </p:blipFill>
        <p:spPr>
          <a:xfrm>
            <a:off x="3489480" y="1560600"/>
            <a:ext cx="1946160" cy="17492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29" descr="2"/>
          <p:cNvPicPr/>
          <p:nvPr/>
        </p:nvPicPr>
        <p:blipFill>
          <a:blip r:embed="rId3"/>
          <a:srcRect l="0" t="0" r="73715" b="2396"/>
          <a:stretch/>
        </p:blipFill>
        <p:spPr>
          <a:xfrm>
            <a:off x="826920" y="1560600"/>
            <a:ext cx="1994040" cy="1749240"/>
          </a:xfrm>
          <a:prstGeom prst="rect">
            <a:avLst/>
          </a:prstGeom>
          <a:ln w="0">
            <a:noFill/>
          </a:ln>
        </p:spPr>
      </p:pic>
      <p:sp>
        <p:nvSpPr>
          <p:cNvPr id="1075" name="Text Box 30"/>
          <p:cNvSpPr/>
          <p:nvPr/>
        </p:nvSpPr>
        <p:spPr>
          <a:xfrm>
            <a:off x="1942200" y="283068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2"/>
          <p:cNvSpPr/>
          <p:nvPr/>
        </p:nvSpPr>
        <p:spPr>
          <a:xfrm>
            <a:off x="1216800" y="3236760"/>
            <a:ext cx="9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食指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大约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33"/>
          <p:cNvSpPr/>
          <p:nvPr/>
        </p:nvSpPr>
        <p:spPr>
          <a:xfrm>
            <a:off x="3831480" y="3284640"/>
            <a:ext cx="9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田字格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大约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34"/>
          <p:cNvSpPr/>
          <p:nvPr/>
        </p:nvSpPr>
        <p:spPr>
          <a:xfrm>
            <a:off x="6566760" y="3284640"/>
            <a:ext cx="9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图钉的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大约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0" name="圆角矩形 12" descr=""/>
            <p:cNvPicPr/>
            <p:nvPr/>
          </p:nvPicPr>
          <p:blipFill>
            <a:blip r:embed="rId4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2" name="椭圆 14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4" name="椭圆 16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0" name="缺角矩形 22"/>
          <p:cNvSpPr/>
          <p:nvPr/>
        </p:nvSpPr>
        <p:spPr>
          <a:xfrm>
            <a:off x="804960" y="1170000"/>
            <a:ext cx="222120" cy="192240"/>
          </a:xfrm>
          <a:custGeom>
            <a:avLst/>
            <a:gdLst>
              <a:gd name="textAreaLeft" fmla="*/ 22680 w 222120"/>
              <a:gd name="textAreaRight" fmla="*/ 199440 w 222120"/>
              <a:gd name="textAreaTop" fmla="*/ 22680 h 192240"/>
              <a:gd name="textAreaBottom" fmla="*/ 169560 h 192240"/>
            </a:gdLst>
            <a:ahLst/>
            <a:rect l="textAreaLeft" t="textAreaTop" r="textAreaRight" b="textAreaBottom"/>
            <a:pathLst>
              <a:path w="249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1351" y="21600"/>
                </a:lnTo>
                <a:arcTo wR="3600" hR="3600" stAng="10800000" swAng="5400000"/>
                <a:lnTo>
                  <a:pt x="249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34373"/>
              </a:gs>
            </a:gsLst>
            <a:lin ang="5400000"/>
          </a:gra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Box 34"/>
          <p:cNvSpPr/>
          <p:nvPr/>
        </p:nvSpPr>
        <p:spPr>
          <a:xfrm>
            <a:off x="1359000" y="944640"/>
            <a:ext cx="23493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b0f0"/>
                </a:solidFill>
                <a:latin typeface="宋体"/>
              </a:rPr>
              <a:t>厘米的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Picture 5" descr=""/>
          <p:cNvPicPr/>
          <p:nvPr/>
        </p:nvPicPr>
        <p:blipFill>
          <a:blip r:embed="rId1"/>
          <a:srcRect l="876" t="7878" r="1166" b="13288"/>
          <a:stretch/>
        </p:blipFill>
        <p:spPr>
          <a:xfrm>
            <a:off x="468360" y="2060640"/>
            <a:ext cx="7777080" cy="744480"/>
          </a:xfrm>
          <a:prstGeom prst="rect">
            <a:avLst/>
          </a:prstGeom>
          <a:ln w="0">
            <a:noFill/>
          </a:ln>
        </p:spPr>
      </p:pic>
      <p:sp>
        <p:nvSpPr>
          <p:cNvPr id="1093" name="AutoShape 9"/>
          <p:cNvSpPr/>
          <p:nvPr/>
        </p:nvSpPr>
        <p:spPr>
          <a:xfrm>
            <a:off x="3198960" y="3143160"/>
            <a:ext cx="4194000" cy="1368360"/>
          </a:xfrm>
          <a:prstGeom prst="wedgeRoundRectCallout">
            <a:avLst>
              <a:gd name="adj1" fmla="val -43356"/>
              <a:gd name="adj2" fmla="val 73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尺的刻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准纸条的左端，再看纸条的右端对着几，纸条的长度就是几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14"/>
          <p:cNvSpPr/>
          <p:nvPr/>
        </p:nvSpPr>
        <p:spPr>
          <a:xfrm>
            <a:off x="649440" y="1773360"/>
            <a:ext cx="3678120" cy="301680"/>
          </a:xfrm>
          <a:prstGeom prst="rect">
            <a:avLst/>
          </a:prstGeom>
          <a:solidFill>
            <a:srgbClr val="ccfff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utoShape 23"/>
          <p:cNvSpPr/>
          <p:nvPr/>
        </p:nvSpPr>
        <p:spPr>
          <a:xfrm>
            <a:off x="4140360" y="1773360"/>
            <a:ext cx="188640" cy="22356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24"/>
          <p:cNvSpPr/>
          <p:nvPr/>
        </p:nvSpPr>
        <p:spPr>
          <a:xfrm flipH="1" flipV="1">
            <a:off x="4140360" y="1753560"/>
            <a:ext cx="193680" cy="2365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25"/>
          <p:cNvSpPr/>
          <p:nvPr/>
        </p:nvSpPr>
        <p:spPr>
          <a:xfrm>
            <a:off x="865440" y="1268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( </a:t>
            </a:r>
            <a:r>
              <a:rPr b="0" lang="en-US" sz="2400" spc="-1" strike="noStrike">
                <a:solidFill>
                  <a:srgbClr val="ff0000"/>
                </a:solidFill>
                <a:latin typeface="方正北魏楷书简体"/>
                <a:ea typeface="方正北魏楷书简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      )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27" descr="卡通男孩副本"/>
          <p:cNvPicPr/>
          <p:nvPr/>
        </p:nvPicPr>
        <p:blipFill>
          <a:blip r:embed="rId2"/>
          <a:stretch/>
        </p:blipFill>
        <p:spPr>
          <a:xfrm>
            <a:off x="1363680" y="3562200"/>
            <a:ext cx="1685880" cy="2362320"/>
          </a:xfrm>
          <a:prstGeom prst="rect">
            <a:avLst/>
          </a:prstGeom>
          <a:ln w="0">
            <a:noFill/>
          </a:ln>
        </p:spPr>
      </p:pic>
      <p:sp>
        <p:nvSpPr>
          <p:cNvPr id="1099" name="Text Box 29"/>
          <p:cNvSpPr/>
          <p:nvPr/>
        </p:nvSpPr>
        <p:spPr>
          <a:xfrm>
            <a:off x="2268720" y="126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1" name="圆角矩形 14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3" name="椭圆 15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4" name="椭圆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椭圆 17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6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22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1" name="八边形 7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3" name="圆角矩形 1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5" name="椭圆 15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6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椭圆 17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椭圆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1" name="圆角矩形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3" name="文本框 2"/>
          <p:cNvSpPr/>
          <p:nvPr/>
        </p:nvSpPr>
        <p:spPr>
          <a:xfrm>
            <a:off x="919080" y="2043000"/>
            <a:ext cx="71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认识厘米：尺子从刻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到刻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的距离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3"/>
          <p:cNvSpPr/>
          <p:nvPr/>
        </p:nvSpPr>
        <p:spPr>
          <a:xfrm>
            <a:off x="974880" y="3246480"/>
            <a:ext cx="71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尺子测量物体的长度，物体两端的刻度差就是物体的长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 Box 5"/>
          <p:cNvSpPr/>
          <p:nvPr/>
        </p:nvSpPr>
        <p:spPr>
          <a:xfrm>
            <a:off x="1979640" y="2924280"/>
            <a:ext cx="48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12"/>
          <p:cNvSpPr/>
          <p:nvPr/>
        </p:nvSpPr>
        <p:spPr>
          <a:xfrm>
            <a:off x="971640" y="1197000"/>
            <a:ext cx="7272360" cy="4608360"/>
          </a:xfrm>
          <a:custGeom>
            <a:avLst/>
            <a:gdLst>
              <a:gd name="textAreaLeft" fmla="*/ 0 w 7272360"/>
              <a:gd name="textAreaRight" fmla="*/ 7272720 w 7272360"/>
              <a:gd name="textAreaTop" fmla="*/ 1198440 h 4608360"/>
              <a:gd name="textAreaBottom" fmla="*/ 340992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完成教材第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页上面的“做一做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完成教材第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页练习一第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8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0" name="椭圆 2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1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椭圆 4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3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01:28:53Z</dcterms:created>
  <dc:creator/>
  <dc:description/>
  <dc:language>en-US</dc:language>
  <cp:lastModifiedBy>万润仪器贸易公司</cp:lastModifiedBy>
  <dcterms:modified xsi:type="dcterms:W3CDTF">2020-08-21T00:26:13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